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E26-3EF5-4236-AA06-07485094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CAD-BE0C-4D6C-A937-490B0E42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4D5-128B-4E9A-AC05-E03BCD38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65FB-FAE4-4E83-8385-EFC2A78F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C432-43EF-47C6-96AD-D2110EA82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D362-816B-48D7-A23D-2D3191F0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18B3-2D06-4E49-83C2-A4F15D52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D0B2-D421-4A47-B4F5-FA9CE56B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6DEB-3864-4BED-B2B6-03BC4A12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F000-4C63-4025-8805-3B376328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D402-3E82-4022-9D04-11092E0A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C7D-1256-453B-B501-605D7C03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E536-8581-4A58-A501-E64D0A00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B25A-1DF3-4D0C-B89C-C770713B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0101-0348-4B2F-AC6D-C76FE5B8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F78E-04FE-4BED-9E41-DDB29DC4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F32D-8A3A-49EC-A27E-2A71AB54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3D99-587E-4574-B6BC-8917C6BA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F7E53-FAD5-4FEF-8347-5CC1A96D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537B-0399-49DC-9EE1-CF032D6A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7CC0-C5D5-4D72-82F5-7B445330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F911-A331-4B15-BA44-0CA7051F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15D-7C33-4681-9C1E-52E5B5DA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45917-C6EA-47AD-B1E0-CF93205B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9E65-19E4-468A-9BC1-A8BB83C9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C774-7B0D-4955-923B-0E21AA82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A3E9-0FCB-4016-BC39-4D8DA1CD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8095-D11D-4E26-9E86-A8789E20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6BA28-4396-40D6-BEB5-0C32453F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E57F-0480-4C65-863F-DC84727D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14575-BC09-4189-BDEA-7486E2CA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7DB900-A499-4803-A371-FBB3BAC5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EE2942-83A6-4379-A041-5837B755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E1D-F22A-4C1E-BEDA-BF5067A6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1CD09-EEE8-4ADE-A6D8-CA661088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19EF5-831B-432F-9677-AEECA4FE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CFDF0-CC15-4F88-B3A6-663442EC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B8968-45F9-4880-88BE-2EE0ABE1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F20C4-886D-4799-B129-F1345CD9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76E7C-FF1B-42A6-95D7-8FCD205B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630585-38C7-44F7-BFFD-CB22E6D9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1F758-CAFC-4FF8-8F51-C7FE5914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9C3F6F-2642-411B-BA71-879CD988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89DA0-A71E-42C3-B238-7DCA61FE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3FD-540C-4F07-A9A5-F4845AE1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A396D-E588-456F-A615-9619A33F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35642-44E2-4F5A-8139-300AC483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84A1B-ACD5-4BC4-AE91-0FB94634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72E4F-EB46-401B-BCF1-8C749C93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C4DA6-AC7D-4088-88D5-23465E8D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5E733-E19B-4CE7-B549-335077B0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CD3C4-586C-4D3E-AC5E-1C126A34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0952-34D6-4FDA-B2CD-907053C3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453AD-B997-46AD-9450-CD7D97B0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823BE-1ABA-4291-8DA7-D1CB4B09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D7F1-C56F-415F-B688-A47686F7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35D59-ABFF-4318-A10B-A11A7424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A42A9-B6E0-4C66-BFD3-0BDE4BEE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A3287-EC41-4CA6-9C85-2E24725B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C1889-A5F8-47BE-B31C-458939A3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45A8C-9061-4A57-BA76-B4A5A346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237BE-7814-41E7-88D7-A9623C85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17333-9907-4627-B8DA-69E600EF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97B60-32C2-498A-B806-59EE5696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3ED4D-FA2E-4A4F-A091-543E8661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E2F72-44A5-49B3-A206-A6E6F1EC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86E-DA6E-4F93-8C60-4B250D14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8FD43-D0DD-4B56-864C-FE071D57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794B2-665F-48B6-8D72-17C01607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60A47-1309-42AD-A698-09CC877D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86A992-1BFF-47D5-8517-C96B420E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099CB0-B4FB-4A79-B024-D2D66226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276AD9-6921-47B9-92FF-5EEBF31E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55FCF-4372-4F37-8C09-8BF822EC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4716C-08CD-46F8-9D93-379D4AEF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99E55-BB83-47C0-A51F-32734485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9EE58-768A-4433-9404-FBC0A5AA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C58-4274-47A6-8E1B-26E484F7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A4EAD-1A42-477A-9D39-9609A6A4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0B9B32-D096-4000-8932-92021586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E65AC-04D1-4736-95E5-95D70B53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E75C6-4D8E-4EB9-A119-D29F842F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41012-A944-478B-9C86-570A449E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FF166-FA1B-496C-ABB6-135C9572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5E5CE-A1BA-4427-9BA1-B4805BF0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F251-1B4B-437C-877A-63FBA7D2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F7C54-031C-4A1E-9245-1BA00C30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642F6-6CCA-4217-92FB-36466AF6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2B1-9CC6-47EC-AD22-54FF33E5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9969C-DF51-47D5-AFCB-5B46A5D4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39A14-F83F-4819-96BF-5122D41C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592E2-3B04-45AD-81F3-5ADEDC42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28046-32B9-451E-9406-4B4B4C8D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A3C46-57DC-4670-BD99-732589F1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FB17E-AA72-4AC8-ADCD-C61F0E9F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B592F-DF7D-41CE-AF02-B8BB14ED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28FA-2B33-44AC-A4A2-99EB1048E591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9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61E4-2835-4867-931C-CDBA6AA43FA5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67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68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69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0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2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73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4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6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77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8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0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1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3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4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5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08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09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6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7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0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1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22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3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4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25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7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B6E7-BC9B-480A-B63A-97EEFECAC6BD}" type="slidenum">
              <a:rPr b="0" lang="es-MX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293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95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99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0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1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03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4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5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06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7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8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09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4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1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34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33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33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37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3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3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341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2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3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45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6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7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48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49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50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51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7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8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0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1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2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3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669E-1401-4F8B-972B-7CAB71FAC10A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41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2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2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2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2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2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2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2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2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2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42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3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43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3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3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435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9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0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1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2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3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4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5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6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7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8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9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0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1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2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3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4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5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6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5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60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461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462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463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64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65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66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467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68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69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470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471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72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73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474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75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76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477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8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9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0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1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2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3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5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6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99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F361-AF43-495E-A752-1EDB23460113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545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546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547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48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49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50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551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52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53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54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555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56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57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558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59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60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561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4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5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7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8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9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0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1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2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83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86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587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588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589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90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91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92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593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94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95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596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597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98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99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600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1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2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603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4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5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6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7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8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9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0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1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2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3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4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5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6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7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8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9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0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1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25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16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17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18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E13A-2A96-40B8-A467-D3CCEE4121E8}" type="slidenum">
              <a:rPr b="0" lang="es-MX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67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67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67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67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67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7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67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67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67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8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68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68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68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68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8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8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68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8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0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12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713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71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715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71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71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71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719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720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721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72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723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724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725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726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7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8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729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0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1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2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3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4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5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6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7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8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9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0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1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2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3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4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5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6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7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8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9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0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51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2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4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19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20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3C4F-8D5D-4B84-BC76-B39069DE4E02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ftr" idx="2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797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798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799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00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01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02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803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04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05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06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807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08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09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10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11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12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813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4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5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6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7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8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9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0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1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2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3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4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5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6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7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8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9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0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35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6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7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38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39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4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41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4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4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4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845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46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47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4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849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50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51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52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53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54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855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6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7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8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9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0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1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2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3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4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5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6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7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8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9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0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1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2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3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4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5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6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77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8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9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0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22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23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24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DEBA-5D0C-450B-8FA5-D5D271502746}" type="slidenum">
              <a:rPr b="0" lang="es-MX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ffffff"/>
                </a:solidFill>
                <a:latin typeface="Broadway"/>
              </a:rPr>
              <a:t>Tés e infusiones </a:t>
            </a:r>
            <a:endParaRPr b="0" lang="en-US" sz="6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61928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6f9500"/>
                </a:solidFill>
                <a:latin typeface="Broadway"/>
              </a:rPr>
              <a:t>Se realizó una encuesta con una muestra de 70 personas  de las cuales 60 sí consumen tè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24" name="2 Gráfico" descr=""/>
          <p:cNvPicPr/>
          <p:nvPr/>
        </p:nvPicPr>
        <p:blipFill>
          <a:blip r:embed="rId1"/>
          <a:stretch/>
        </p:blipFill>
        <p:spPr>
          <a:xfrm>
            <a:off x="4211640" y="3541680"/>
            <a:ext cx="5256360" cy="3316320"/>
          </a:xfrm>
          <a:prstGeom prst="rect">
            <a:avLst/>
          </a:prstGeom>
          <a:ln w="0">
            <a:noFill/>
          </a:ln>
        </p:spPr>
      </p:pic>
      <p:pic>
        <p:nvPicPr>
          <p:cNvPr id="925" name="5 Imagen" descr=""/>
          <p:cNvPicPr/>
          <p:nvPr/>
        </p:nvPicPr>
        <p:blipFill>
          <a:blip r:embed="rId2"/>
          <a:stretch/>
        </p:blipFill>
        <p:spPr>
          <a:xfrm rot="20737200">
            <a:off x="988920" y="4090680"/>
            <a:ext cx="21240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aaea25"/>
                </a:solidFill>
                <a:latin typeface="Copperplate Gothic Light"/>
              </a:rPr>
              <a:t>La edad promedio de los consumidores entrevistados fue de 31 año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aaea25"/>
                </a:solidFill>
                <a:latin typeface="Copperplate Gothic Light"/>
              </a:rPr>
              <a:t>Grafica 1 nos muestra que tés son los mas consumido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27" name="6 Gráfico" descr=""/>
          <p:cNvPicPr/>
          <p:nvPr/>
        </p:nvPicPr>
        <p:blipFill>
          <a:blip r:embed="rId1"/>
          <a:stretch/>
        </p:blipFill>
        <p:spPr>
          <a:xfrm>
            <a:off x="1103400" y="2981160"/>
            <a:ext cx="629100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Copperplate Gothic Light"/>
              </a:rPr>
              <a:t>Grafica 2 nos muestra los principales motivos que tienen los consumidores para tomar un té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29" name="11 Gráfico" descr=""/>
          <p:cNvPicPr/>
          <p:nvPr/>
        </p:nvPicPr>
        <p:blipFill>
          <a:blip r:embed="rId1"/>
          <a:stretch/>
        </p:blipFill>
        <p:spPr>
          <a:xfrm>
            <a:off x="1116000" y="1847880"/>
            <a:ext cx="67658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1 Rectángulo"/>
          <p:cNvSpPr/>
          <p:nvPr/>
        </p:nvSpPr>
        <p:spPr>
          <a:xfrm>
            <a:off x="900000" y="10303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030a0"/>
                </a:solidFill>
                <a:latin typeface="Copperplate Gothic Light"/>
              </a:rPr>
              <a:t>Esta Grafica  nos muestra los mal- esterares que los consumidores atacan con  el té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31" name="7 Gráfico" descr=""/>
          <p:cNvPicPr/>
          <p:nvPr/>
        </p:nvPicPr>
        <p:blipFill>
          <a:blip r:embed="rId1"/>
          <a:stretch/>
        </p:blipFill>
        <p:spPr>
          <a:xfrm>
            <a:off x="1189080" y="2395440"/>
            <a:ext cx="6669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70c0"/>
                </a:solidFill>
                <a:latin typeface="Copperplate Gothic Light"/>
              </a:rPr>
              <a:t>Grafica 3 nos muestra cuales son las marcas de la preferencia de los consumidore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33" name="8 Gráfico" descr=""/>
          <p:cNvPicPr/>
          <p:nvPr/>
        </p:nvPicPr>
        <p:blipFill>
          <a:blip r:embed="rId1"/>
          <a:stretch/>
        </p:blipFill>
        <p:spPr>
          <a:xfrm>
            <a:off x="1401840" y="1700280"/>
            <a:ext cx="6194520" cy="4030560"/>
          </a:xfrm>
          <a:prstGeom prst="rect">
            <a:avLst/>
          </a:prstGeom>
          <a:ln w="0">
            <a:noFill/>
          </a:ln>
        </p:spPr>
      </p:pic>
      <p:pic>
        <p:nvPicPr>
          <p:cNvPr id="934" name="1 Imagen" descr=""/>
          <p:cNvPicPr/>
          <p:nvPr/>
        </p:nvPicPr>
        <p:blipFill>
          <a:blip r:embed="rId2"/>
          <a:stretch/>
        </p:blipFill>
        <p:spPr>
          <a:xfrm>
            <a:off x="6659640" y="1851120"/>
            <a:ext cx="1584360" cy="1377720"/>
          </a:xfrm>
          <a:prstGeom prst="rect">
            <a:avLst/>
          </a:prstGeom>
          <a:ln w="0">
            <a:noFill/>
          </a:ln>
        </p:spPr>
      </p:pic>
      <p:pic>
        <p:nvPicPr>
          <p:cNvPr id="935" name="4 Imagen" descr=""/>
          <p:cNvPicPr/>
          <p:nvPr/>
        </p:nvPicPr>
        <p:blipFill>
          <a:blip r:embed="rId3"/>
          <a:stretch/>
        </p:blipFill>
        <p:spPr>
          <a:xfrm rot="20228400">
            <a:off x="776160" y="467352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936" name="5 Imagen" descr=""/>
          <p:cNvPicPr/>
          <p:nvPr/>
        </p:nvPicPr>
        <p:blipFill>
          <a:blip r:embed="rId4"/>
          <a:stretch/>
        </p:blipFill>
        <p:spPr>
          <a:xfrm rot="20555400">
            <a:off x="6451200" y="4808160"/>
            <a:ext cx="1459080" cy="1050840"/>
          </a:xfrm>
          <a:prstGeom prst="rect">
            <a:avLst/>
          </a:prstGeom>
          <a:ln w="0">
            <a:noFill/>
          </a:ln>
        </p:spPr>
      </p:pic>
      <p:pic>
        <p:nvPicPr>
          <p:cNvPr id="937" name="6 Imagen" descr=""/>
          <p:cNvPicPr/>
          <p:nvPr/>
        </p:nvPicPr>
        <p:blipFill>
          <a:blip r:embed="rId5"/>
          <a:stretch/>
        </p:blipFill>
        <p:spPr>
          <a:xfrm>
            <a:off x="1200240" y="1878120"/>
            <a:ext cx="13348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23adc"/>
                </a:solidFill>
                <a:latin typeface="Broadway"/>
              </a:rPr>
              <a:t>Los consumidores eligen su té de acuerdo a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e3d2d"/>
                </a:solidFill>
                <a:latin typeface="Broadway"/>
              </a:rPr>
              <a:t>             </a:t>
            </a: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1. sabor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             </a:t>
            </a: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2. propiedades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             </a:t>
            </a: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3. precio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             </a:t>
            </a:r>
            <a:r>
              <a:rPr b="0" lang="es-MX" sz="3200" spc="-1" strike="noStrike">
                <a:solidFill>
                  <a:srgbClr val="e563f3"/>
                </a:solidFill>
                <a:latin typeface="Broadway"/>
              </a:rPr>
              <a:t>4. marca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39" name="1 Imagen" descr=""/>
          <p:cNvPicPr/>
          <p:nvPr/>
        </p:nvPicPr>
        <p:blipFill>
          <a:blip r:embed="rId2"/>
          <a:stretch/>
        </p:blipFill>
        <p:spPr>
          <a:xfrm rot="20436000">
            <a:off x="6361200" y="4136760"/>
            <a:ext cx="2006640" cy="2008080"/>
          </a:xfrm>
          <a:prstGeom prst="rect">
            <a:avLst/>
          </a:prstGeom>
          <a:ln w="0">
            <a:noFill/>
          </a:ln>
        </p:spPr>
      </p:pic>
      <p:pic>
        <p:nvPicPr>
          <p:cNvPr id="940" name="3 Imagen" descr=""/>
          <p:cNvPicPr/>
          <p:nvPr/>
        </p:nvPicPr>
        <p:blipFill>
          <a:blip r:embed="rId3"/>
          <a:stretch/>
        </p:blipFill>
        <p:spPr>
          <a:xfrm>
            <a:off x="679320" y="4892760"/>
            <a:ext cx="1684440" cy="1528560"/>
          </a:xfrm>
          <a:prstGeom prst="rect">
            <a:avLst/>
          </a:prstGeom>
          <a:ln w="0">
            <a:noFill/>
          </a:ln>
        </p:spPr>
      </p:pic>
      <p:pic>
        <p:nvPicPr>
          <p:cNvPr id="941" name="4 Imagen" descr=""/>
          <p:cNvPicPr/>
          <p:nvPr/>
        </p:nvPicPr>
        <p:blipFill>
          <a:blip r:embed="rId4"/>
          <a:stretch/>
        </p:blipFill>
        <p:spPr>
          <a:xfrm rot="982200">
            <a:off x="5806800" y="2168280"/>
            <a:ext cx="20923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000"/>
                </a:solidFill>
                <a:latin typeface="Copperplate Gothic Light"/>
              </a:rPr>
              <a:t>Grafica 4 nos muestra el gasto mensual de  los consumidores en té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43" name="9 Gráfico" descr=""/>
          <p:cNvPicPr/>
          <p:nvPr/>
        </p:nvPicPr>
        <p:blipFill>
          <a:blip r:embed="rId1"/>
          <a:stretch/>
        </p:blipFill>
        <p:spPr>
          <a:xfrm>
            <a:off x="1189080" y="1847880"/>
            <a:ext cx="66927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6700"/>
                </a:solidFill>
                <a:latin typeface="Century Gothic"/>
              </a:rPr>
              <a:t>Grafica 5 nos muestra el lugar en donde los consumidores adquieren su producto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945" name="10 Gráfico" descr=""/>
          <p:cNvPicPr/>
          <p:nvPr/>
        </p:nvPicPr>
        <p:blipFill>
          <a:blip r:embed="rId1"/>
          <a:stretch/>
        </p:blipFill>
        <p:spPr>
          <a:xfrm>
            <a:off x="895320" y="1847880"/>
            <a:ext cx="6627960" cy="4174920"/>
          </a:xfrm>
          <a:prstGeom prst="rect">
            <a:avLst/>
          </a:prstGeom>
          <a:ln w="0">
            <a:noFill/>
          </a:ln>
        </p:spPr>
      </p:pic>
      <p:pic>
        <p:nvPicPr>
          <p:cNvPr id="946" name="1 Imagen" descr=""/>
          <p:cNvPicPr/>
          <p:nvPr/>
        </p:nvPicPr>
        <p:blipFill>
          <a:blip r:embed="rId2"/>
          <a:stretch/>
        </p:blipFill>
        <p:spPr>
          <a:xfrm rot="1227600">
            <a:off x="4730760" y="1949040"/>
            <a:ext cx="334152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01:10:43Z</dcterms:created>
  <dc:creator>datl59</dc:creator>
  <dc:description/>
  <dc:language>en-US</dc:language>
  <cp:lastModifiedBy>Katty</cp:lastModifiedBy>
  <dcterms:modified xsi:type="dcterms:W3CDTF">2012-05-05T03:51:58Z</dcterms:modified>
  <cp:revision>10</cp:revision>
  <dc:subject/>
  <dc:title>Tes e infusiones</dc:title>
</cp:coreProperties>
</file>